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303-FB49-4009-B1B2-53D87BBC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361-6744-47A4-BC11-B1FD4FBF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F26F2-4032-4443-A8A7-C34498FA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B704D-8010-4210-967B-982EC2CF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965BE-A7F4-4672-86CA-43EA368F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A3CCA-E4D6-4C5E-B029-D962A5C0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014F3-5336-4738-994D-B0395C0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CE861-2D81-4CF7-A834-A0C148DF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E8CE-0D09-4D4E-BF03-C4745C6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A3769-07C0-4AC3-97F7-F8CBBEFE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D985D-1B93-4456-95FF-14EA018C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C826C-9199-4907-926C-104C41B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F8E-32B2-445D-9680-16753E43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F345B-4506-41A2-B127-56493ED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5A4B-9D4F-4E7B-BD90-B47399E4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3C39A-8C73-46D3-974D-AAE9A34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AE9E6-51B2-492B-A634-C7F21E2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ACF34-5CA2-4EAE-B51B-A348C9B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FD88-8A10-4452-9FD9-A442116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F738-D7A8-4DE3-BFB4-1B72C6E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D09B7-D981-47B0-941D-9EB9454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2E1AF-21DD-46B3-BE7F-DC26E95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D8FE2-9F94-4EFB-A582-08EA9588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6C1-9709-43A0-85CA-D2B2B7CB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A9E2-5249-4816-A60F-A4E598EF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3403A-824D-4767-9969-38965ED9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31CCA-8FD8-424E-B34E-8887028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4012-7FAC-43D7-8412-27447D8F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93AC-0D05-442E-83D6-90149C8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A7AD-F424-4A79-B6C8-ED80896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A726-9DF1-4884-98F0-8813BC0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E6FCC-27C3-448D-9A1E-0B942C0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C5328-1E3B-4F58-B6AD-18B7346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F0952-B988-46E8-9276-9FCBB69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644-38FE-472D-8A8E-8260E735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865C-E4A9-483F-884A-0D094C03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B94F-AFE2-45F3-9B71-827564F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C55C-D47B-452B-BF17-64685DE2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D2340-460C-4C9A-964E-46E16671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3B88A-E6B2-4E49-A47F-865EF06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AFB4C-54DE-45D5-A7BC-6068458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D630-E2ED-4F9F-9AFC-B65C7CB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6F56A-344F-462A-94E8-ADACE50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0BB65-DC08-4EF6-B9FF-70FB7FE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616C3-A307-48D2-BF3E-27E1D6A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ED79-58A8-4473-89BA-5E3145ED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07119-A844-46CE-94A7-1285F41C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FFE92-7A58-45C5-94E4-220166B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27A7C-7BFC-4F36-A3C2-D1868BA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8B470-AC91-43E5-9790-B1C74143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AADDC-A824-4042-B337-91F93B0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1338D-0221-4D59-BEC6-DFF27754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4378A-E4C7-414C-A017-D71CCCE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71D45-0570-4F05-AFC5-8F6DA31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4DFBD-6E21-4A53-94C6-356BD64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3A03A-C634-475A-A793-27C62BE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C99-F6B0-48A8-82D1-F82FBDB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8E41B-782A-4F49-AEDE-A3886024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D9007-B30B-4AF4-BE10-4ED4590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8213B-383C-4CC8-A358-D306123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161A1-3BDB-4994-862B-A0E4CBE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005C6-02E2-4491-906A-4DF0C343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53DB5-1BDC-40D7-90B2-0E32772C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061F6-4553-4C75-AFE8-46E6FBF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ED53B-C74C-4C7D-870D-3B11C434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DEA7B-DF25-46DA-B622-F5BE70C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E2D21-6654-4089-953B-884923A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1CD3-8815-40AA-86C7-25CA7D76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734B5-62FB-4D74-9ADA-C9CD92EB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426B1-DEE5-4A76-8825-20E9155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F4FE0-EB3C-4CE6-AC22-85A2228B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1620E-03CD-44DF-A0F0-EC6A104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82F5F-BC01-48DE-A8D9-47F0584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22CB3-3415-45F4-9EDF-AFB7D38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D6E46-7138-4B7F-957E-DE5C3122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32D95-C08F-408B-9DE0-DE87B61A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8F5EE-98F1-431C-9090-073C24C3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B0B85-F4D0-4990-984C-73A516D6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B195-BF65-486B-AD40-6D625A8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53CB8-BE19-4753-A78D-77006B59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748F1-2966-4CE4-897B-AC969EC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E6FE4-C1A0-441E-8260-1B3CCD4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6E4E1-BC01-4AC1-B512-176C232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D02BD-E5A5-49D1-A242-874D862A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2E2CE-EE06-4956-9A4C-5EA65CD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6CC20-269D-4C6D-9C7E-F862431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FBC43-985B-44A9-A054-764D4D3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76C32-1FE7-4BC8-8FDA-0D1B46AD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6734F-4294-4024-BFE0-E8A3ABC6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BE8-C98F-4A70-AF70-A81E8357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E9E7B-C5B3-4183-B8E4-25571295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EF56D-20E9-4658-ABA2-72BC346D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BD33B-F348-46C2-A25D-0E2FD04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544AE-5C5E-4219-B113-1062204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0F8C9-EE62-450E-A605-D58C7FF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426D1-BC8D-4099-ABD8-C8183DCE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B7334-D565-4F67-BC9C-20733F9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CC0B0-3FFF-4396-84A2-3C41373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FA4DD-0E38-4251-A304-BC793DC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AFFA9-F95E-438A-8620-B9C85F4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4461-AC4F-43E5-B23A-3ED1B51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ED6E5-BD68-4E0E-A5F5-B4EE536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A1DE6-7066-456F-BD8C-B567607B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1690A-3694-489F-A0E0-0D9F3DFF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8FAFB-C7D2-4843-A4F6-94033F83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1BD36-E4C7-48EA-ABF2-4444079F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70C0B-60CC-4187-87FD-802820DB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25DF7-9CBC-4D3B-8A99-003FEE9B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F532F-A955-49F7-B4E8-3E6C1EB7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52509-67A0-46D9-A79C-73DE778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79562-6D7E-4751-AA21-37A1A7D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C32-5755-4401-B3EB-B153C0C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08B0-2400-4D44-AD3F-B7C1D35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2DEC2-2EF8-4A1D-8C39-85B3738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60EF6-C380-4D94-BA40-B815AB7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23BF4-A277-48EF-89E5-849014A9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A752B-B15B-4B04-94DE-DE0F3A77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4C7A6-1D4E-4127-BF71-21F86DA3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CF2E0-4A38-4AF6-8C39-DEF9CE0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A4E7F-13E0-48A0-96AF-BB953BA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AB140-824C-40F4-8DEE-D33C9A8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370BA-2584-44B9-A9AC-5A4570D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9578A-E6DC-42CD-9AF3-9DDDCF9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9B0D-1BDF-419C-B8D4-7A9BA7F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A37BE-0ABD-443F-9A92-C4A757C3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ADA5E-98A7-4B53-8439-785CC9B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5BDEE-28D3-4C1D-AEE8-7E102BC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95979-1B49-4F91-B242-5E1A888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E3009-C111-4ECD-B003-C45C4478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04D6E-693E-4FA7-80FD-D66D71ED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B9EEF-A9F1-49CD-AE49-D1DC4C8C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27673-A510-45EC-AA72-30AE514F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C2814-C0DF-4986-ADF9-7D39943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20757-895E-4906-955C-8CA2DAE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43F6-C47E-49FF-B2F1-1E740C4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B3C9D-8126-4C7B-8D11-B61E8BF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C2972-EE73-4595-9BD9-AD71E8DB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D5423-284E-4D08-97F7-525382FF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0F06B-A698-483D-AECC-BB720B9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F8C57-6327-4986-8AE0-4D33156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FD6BD-F981-4D0D-91C6-86B1EA0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0BB5F-0194-48C0-ADBE-9DF5F02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06EFE-B3A8-4C8F-89BF-1B5D1D8E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D03CD-5F07-40B6-8A47-23D317A1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6CF49-04D2-4AD1-BB39-EC807603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0FE1-1447-4E8F-AF16-6E00E3B8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D4F3D-42DF-45BC-AD9F-AFB29D3E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BFA9E-D034-43CC-9B71-FCEA3560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6561E-83A9-4055-97E2-1AA3F53E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D8349-9515-468E-AC69-D7B491DB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4446C-CD7B-491C-82B9-81B6561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610AC-FFEB-43B9-8231-C94532D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99021-784B-4E3A-BF18-5B4D489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6B3DE-7768-4765-ADF5-4D9AE21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08E52-C875-4850-97C9-2940E5B6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6D7D3-B823-478E-B973-E9B8A910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846-86D0-4BE9-B753-26417C83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84011E-D989-425E-9B55-7F828603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877B7-C3C8-4476-A6EA-8ABA3CD6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C4623-CF07-4055-8416-C19FAEC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57830-B689-4D2A-AF36-C793E95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C50C3-E0B5-4D10-9527-89715AB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0F6E6-3E81-4D7A-9AD8-B460C90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D5CB4-8646-47D2-A8E1-ACA5C7D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DDEB9-CE22-4E78-BFAD-F00B155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534E9-69B8-4D2D-8084-2DCEAE77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6E5A9-78D8-4E81-BA2B-06989BE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895A-588D-4392-9F5B-9843FA28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80E8E-C43E-4AE0-A783-24D858FC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1277A-A23D-46D6-BAF2-BD8FE16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AE941E-1576-4D19-884A-DD11CDC6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B04A-8F4F-4500-8A66-9CC0E40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60E0-4B17-49CE-8301-9AF4F11E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101F-37FC-4A71-9343-4D23BF1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8B32-844E-4354-A5DC-06339C7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4D8-CF94-4CFF-8AD6-66BE73B4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CA9B-A900-40C8-B046-39D73DAB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3B09-5200-4735-B3CD-AF12665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532E-C4D6-4A2C-9AF4-7A5D95B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9368-F89D-4299-84A6-825D80E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3DA7-232B-49FE-BF9B-927AC699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CF67-B158-4C69-9950-13B0AB42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ABF5-0E59-4794-A539-BF595FA2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B7D5-BF9F-42F4-BF08-F15DEFA1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BE95-CE25-4B83-87A5-A161D126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C147-5329-4A20-BA87-FDBD9B2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8F4-A3B0-4573-96DC-3E7B2DE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E3E0-B6E9-44E8-9DCB-18D4620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C0D0-F9D7-4E43-8AA7-DADDB30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CC42-8B61-43B6-B4C0-E3F96F1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F561-6593-4E39-A14E-8D018B5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AED4-64EB-410C-9FA3-E2A1EBC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09DD-CD61-42E7-8F1E-DC6E7F40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CCDE-91AC-4AA0-9CFD-E978B552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B465-0F5D-423C-8AD9-D543A4FC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C74C-46D6-43AC-AE95-67DA5D3A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2C2C-2049-4C67-990C-ABF62B13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1FB-2BE3-4F3C-BF8A-6C451C4E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C9BA-0B50-473F-BA56-2F46BEBB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B6C0-7799-4B9E-92B5-D16DF0EB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BDCD-8E0A-402A-9411-B0650FF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576A-B41A-4071-9E1A-7170033D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F145-68C6-4906-83F6-46F1C35F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7FEAA-A42B-4968-A468-FEA4D8C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5E08-BA88-494F-8276-A19E9FA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F7D0-A667-4F5F-8EB3-DFA02F4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002A-DC09-4A65-9896-F22A026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A6F8-7721-4BF2-BA7B-D0291C61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D98-ADA2-4223-AFBE-BD3D19F7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AE96-F981-41BC-B4A6-F4469D57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3D91-F8C7-4694-AF35-7B237EE3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97BC-A8DC-4D67-822B-F427762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1689-C535-43DE-AEBE-88F880C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AE903-91A6-4A77-824C-2968FAA3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3AAD-9D25-4A51-ACAD-D0B44C4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40C6-96BA-43BE-BD3D-8C84F28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A15F-01FE-4601-A486-8C4750A8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0384-6461-4AE4-AA80-6A74994C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CA26-4DD9-4429-9B1D-AD38EB7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A54-9814-4A08-8A5E-5523AC6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B696-A85B-405A-B4BE-CF633A2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A2EC-5A29-4C28-9A60-29880636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65A98-5F7A-41D7-93A1-F3240E56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47D0-7810-4DD4-B07B-CA46B50B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5B8E-AF8F-458C-AF2F-62DC187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EF6A-E026-416D-BAD9-8A0FBD6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5639-2BD4-49BB-B2E8-9677DB8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42FD-A8ED-42D1-8F73-F7A6412F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5C62-9BFF-49DE-8F31-3516BD5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8168-D479-41A3-BAC7-5EE256B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5F3-26EC-4E3C-8D02-AED8D0E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00DF-23D8-4540-9C18-C2911D7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0EE2-D651-4D35-A696-3A23750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8BA8-026C-41A6-B671-5F3B90E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2E59F-5DD7-4A67-BFCF-F7FD4140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8891-D416-4E81-903A-9BFC8BA0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E39B2-8683-40A8-95A3-E91BC055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F0EF8-7B71-4637-82AB-6C5A2EED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092FE-5CBD-4463-AD51-EDA905FF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256A-88E1-4618-B3EF-A396D826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E23E-7FA2-45B5-95F9-4883F9C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F10-9403-4F48-8EBD-1A372A8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6619-8704-4E3B-BD58-CC2F3E5F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BEC2-69E1-42F6-BE55-0844785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9FFA-841B-41CE-BA99-4C87057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5B0DF-7155-45C9-9D73-BD5067E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60EA-79B0-4CCB-94C5-08A743B4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58B3-FE7D-49A8-9C7E-9485D3D1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50BB-5EED-4FCA-ACA7-ACB4DC63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4D47-FBE6-4EA1-B8BB-77AA2D00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54DE-325C-4F55-A915-26A5DC1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558E8-3F60-4888-A0E4-BF497F01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7637-0C58-4AF0-80CE-3C4DAA173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5C1-6C88-490A-BD4F-5731CF434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31E-2669-47B5-BBB2-978D88BFF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649-512B-4F3C-A154-9534FC9264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4A00-13D0-4E15-BA4F-26DCD725D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FFB-BBA8-4425-9835-B6242B652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E2F-9166-4700-8894-5B26DEBF6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0C4-F4AB-402B-B1B1-A95469D64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E3B0-A2E0-493E-A4E2-2E9B14A25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744-56A7-45E8-9C0B-D25BD3AAE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4B0-FA9E-4E6E-BFD8-86A09B547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FEA7-0DC4-45A7-873A-2DA551E7E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1CAE-C552-42F6-9607-331A81B042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C288-2488-46A7-A269-32932EAF8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1CF-A6B3-4A39-A44C-3235757C5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22E-5E48-4195-80CB-01C3C2FA3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EE9-3D71-4656-BF37-CD0E5EFA5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FDB5-ABF3-48E8-80DB-2C5D7970A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42C-A18A-4080-BD9B-588261290B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007-BA5F-45F0-AEE5-E8C44ED741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302-91C8-4F47-A999-5F8BC2DB2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C82-F83F-4303-9F2C-C62C5804D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D373-DFD2-435A-9072-FBC8DBAFC6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DF6-18DF-4DDC-9479-2FE90858C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220-1289-4D5D-A4CA-9EC3D5307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AD2-24BA-402C-A4A6-E90961F98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7924-CADD-4F08-834A-1D5E7D155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AB2-B395-41D8-9868-1ABFE9F397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553-D358-4692-80BD-11D2CD75B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22D-4E94-43F2-BFC8-66B94D356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030-67D8-4BBF-9C7B-50590A64B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FC8-75A7-451B-8F7C-275D08822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21F-AC7A-4F94-B3DC-6140479C4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B44-C390-4B6D-87EA-CCD549095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98C-50B0-448F-A213-3649B7A00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F201-2335-4E1B-B97D-B4AB00702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4E2-22E8-431B-B039-5F0DBBAC0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D3E-E851-4D47-A3A9-99CA22B60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F1F5-A2EE-439E-92B2-99836A969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2B9-95D4-428A-AF00-42E10FC7D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66960" y="3176640"/>
            <a:ext cx="5410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23720" y="1328760"/>
            <a:ext cx="8296560" cy="4200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1368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63528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9272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740720" y="522936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8439120" cy="2686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547640" y="4043520"/>
            <a:ext cx="172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476360" y="442764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498920" y="40528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427640" y="4437000"/>
            <a:ext cx="172872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7377120" y="40528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7305840" y="4437000"/>
            <a:ext cx="172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81080" y="933480"/>
            <a:ext cx="8781840" cy="4991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692360" y="246852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492360" y="2459160"/>
            <a:ext cx="11509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692360" y="3232080"/>
            <a:ext cx="13669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995640" y="3232080"/>
            <a:ext cx="2305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692360" y="3971880"/>
            <a:ext cx="16556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4284720" y="3981600"/>
            <a:ext cx="28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2050920" y="4836960"/>
            <a:ext cx="1008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5364000" y="4826160"/>
            <a:ext cx="10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1647720" y="519588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5753160" y="51865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1835280" y="55897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6012000" y="55897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234280" y="2708280"/>
            <a:ext cx="73044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8224920" y="3097080"/>
            <a:ext cx="730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6"/>
          <a:stretch/>
        </p:blipFill>
        <p:spPr>
          <a:xfrm>
            <a:off x="8224920" y="3519360"/>
            <a:ext cx="73008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7"/>
          <a:stretch/>
        </p:blipFill>
        <p:spPr>
          <a:xfrm>
            <a:off x="8272440" y="3933720"/>
            <a:ext cx="73044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8"/>
          <a:stretch/>
        </p:blipFill>
        <p:spPr>
          <a:xfrm>
            <a:off x="8618400" y="4321080"/>
            <a:ext cx="46836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9"/>
          <a:stretch/>
        </p:blipFill>
        <p:spPr>
          <a:xfrm>
            <a:off x="8599320" y="4734000"/>
            <a:ext cx="46836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0"/>
          <a:stretch/>
        </p:blipFill>
        <p:spPr>
          <a:xfrm>
            <a:off x="8618400" y="5157720"/>
            <a:ext cx="46836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1"/>
          <a:stretch/>
        </p:blipFill>
        <p:spPr>
          <a:xfrm>
            <a:off x="8504280" y="5573880"/>
            <a:ext cx="468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3:3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